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11.png" ContentType="image/png"/>
  <Override PartName="/ppt/media/image6.jpeg" ContentType="image/jpeg"/>
  <Override PartName="/ppt/media/image12.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rbe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55C5-D6D0-4434-AE5B-CCE05F2FCB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4840" y="696960"/>
            <a:ext cx="464832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DABF-1FE1-404F-853B-F4B4E3DA1AAD}"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4840" y="696960"/>
            <a:ext cx="464832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like the character you have to think about how the character feels and acts. This helps you to better understand the story.   </a:t>
            </a:r>
            <a:endParaRPr b="0" lang="en-US" sz="12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B040-6389-46EF-A58B-423261276117}"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4840" y="696960"/>
            <a:ext cx="464832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understanding. Sounds like Charley Brown voice, Waah, waah, waah. </a:t>
            </a:r>
            <a:endParaRPr b="0" lang="en-US" sz="12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F5EC-8D34-4A6C-AFFD-9DC09DE660CE}"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4840" y="696960"/>
            <a:ext cx="464832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ory about a girl named Marcy Lewis.   “Marcy Lewis hates school, her father is a tyrant, and she despairs of ever being thin.  Then along comes Ms. Finney, an English teacher who’s willing to tr anything in the classroom and who treats the kids like human beings.”   Back cover of book by Paul Danzinger</a:t>
            </a:r>
            <a:endParaRPr b="0" lang="en-US" sz="1200" spc="-1" strike="noStrike">
              <a:solidFill>
                <a:srgbClr val="000000"/>
              </a:solidFill>
              <a:latin typeface="Calibri"/>
            </a:endParaRPr>
          </a:p>
        </p:txBody>
      </p:sp>
      <p:sp>
        <p:nvSpPr>
          <p:cNvPr id="3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1BDE-8237-4B9D-9A39-52CEB0D69F8B}"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04840" y="696960"/>
            <a:ext cx="464832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cerpt from Chapter 9 of this book.  The first page of this chapter begins with Marcy going home from school to find her mother waiting at the door.    Notice how the author indents each conversation line—it signals a new person talking.   Read the conversation lines aloud.     In the first line, we can infer that it is the mother talking to the daughter---the words what happened at school and Mr. Stone calling helped me to infer that.  So in this case, I need to think about how a mom sounds and read the line as if I were the mom talking.   Because the line indents here—that’s the next person---we can infer it’s the daughter---I need to think about how my children sound and read it with expression that matches that feeling---I’m making a text to self connection here.    Then because the author indents again for me---I know that the mom must be talking again.  So, again I’m thinking of how a mom would sound to reply t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paragraph, there are no quotation marks. This signals to me that the author is acting as a narrator here.   Knowing this and thinking about the character’s voices helps me to “get into the head of the character” and better understand the story.  </a:t>
            </a:r>
            <a:endParaRPr b="0" lang="en-US" sz="12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EACD-FA6F-4DDE-BF08-302E9FF9CCB2}"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4840" y="696960"/>
            <a:ext cx="4648320" cy="3486240"/>
          </a:xfrm>
          <a:prstGeom prst="rect">
            <a:avLst/>
          </a:prstGeom>
          <a:ln w="0">
            <a:noFill/>
          </a:ln>
        </p:spPr>
      </p:sp>
      <p:sp>
        <p:nvSpPr>
          <p:cNvPr id="3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Point out again how the author indents to help us understand who is talking.   Listen as I read, and as I read, listen to see how I change my voice and expression to match each character.   First paragraph---point out the word “scared”   Explain how that helps you to know that Marcy is worried about her mom’s use of the tranquilizer.   Then notice how Marcy’s mom reassures her and stays on point in the next paragrap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om Marcy’s mom’s words about “Honey do you love Miss finney more than me?”-I can infer-that her mom is worried about Marcy’s relationship with Miss Fin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o read—at the bottom---”You know Marcy….”   Explain how you can infer that perhaps Marcy’s mom is telling Marcy a lesson---explaining that no one is b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Stone’s a fool”---Infer that Marcy is disgusted.   </a:t>
            </a:r>
            <a:endParaRPr b="0" lang="en-US" sz="1200" spc="-1" strike="noStrike">
              <a:solidFill>
                <a:srgbClr val="000000"/>
              </a:solidFill>
              <a:latin typeface="Calibri"/>
            </a:endParaRPr>
          </a:p>
        </p:txBody>
      </p:sp>
      <p:sp>
        <p:nvSpPr>
          <p:cNvPr id="3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7FAB-2116-4032-BDDD-F1D9D95D6616}"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page from this chapter.  Listen as I read it aloud.  Now let’s mark where the characters are.   Mark D by dad- at the top of the page and at “You’re such a klu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M” for Marcy at “I wanted drum lessons”.  Continue through Mr. Stone’s wrong guiding students.  Then ask students to mark D or M for the rest of the page.  Work in partners.   Choose who will be dad and who will be Marcy and read the parts.   Read with expression so that you better understand the meaning of the text.  Remember your job is to think like the character so you can portray their emotions.   </a:t>
            </a:r>
            <a:endParaRPr b="0" lang="en-US" sz="1200" spc="-1" strike="noStrike">
              <a:solidFill>
                <a:srgbClr val="000000"/>
              </a:solidFill>
              <a:latin typeface="Calibri"/>
            </a:endParaRPr>
          </a:p>
        </p:txBody>
      </p:sp>
      <p:sp>
        <p:nvSpPr>
          <p:cNvPr id="3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1613-9090-4F30-8D29-92D5ED145508}"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4840" y="696960"/>
            <a:ext cx="4648320" cy="3486240"/>
          </a:xfrm>
          <a:prstGeom prst="rect">
            <a:avLst/>
          </a:prstGeom>
          <a:ln w="0">
            <a:noFill/>
          </a:ln>
        </p:spPr>
      </p:sp>
      <p:sp>
        <p:nvSpPr>
          <p:cNvPr id="3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like the character you have to think about how the character feels and acts. This helps you to better understand the story.   </a:t>
            </a:r>
            <a:endParaRPr b="0" lang="en-US" sz="1200" spc="-1" strike="noStrike">
              <a:solidFill>
                <a:srgbClr val="000000"/>
              </a:solidFill>
              <a:latin typeface="Calibri"/>
            </a:endParaRPr>
          </a:p>
        </p:txBody>
      </p:sp>
      <p:sp>
        <p:nvSpPr>
          <p:cNvPr id="3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DA9B-16B9-45E5-9D32-10C427508224}"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dialogue in your independent reading book.   Read it to yourself and then to your partner.  Practice using expression and reading like you think the character would sound.   Make sure both partners get a chance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5ED0-2263-4472-AF1E-02A8C19592DA}" type="slidenum">
              <a:rPr b="0" lang="en-U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4D8BA-623D-4704-8CC6-CFAD24D81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4057-78C7-4AD1-A29C-F29B432A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1E6D4-5406-4E3D-97B3-F1F9CF686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34FB6-0799-4424-A337-BAC7C172B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E80EA-0409-4FF8-BF8C-892EC8FCB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14F95-5814-45DD-A3B0-BB9E89B77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F5220-B029-44C4-A0A7-9D87FD7B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DC481-2D4B-4744-9C8A-B212BC918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6DC9-B6A8-49E8-9A56-52398F303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559D4-9A0A-4024-9F34-770BA3867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78F0-A09F-4C5C-BC42-65566C2AF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DA5D5-9D51-4660-ACD0-682470E8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415C-9F71-4D82-85B1-4B9138A83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9EBBD-E709-4E0F-A518-091E05E6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F5B06-176E-4B80-B9D8-7F483B190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E664D-8BC9-4E16-BBD2-C2A3D8AF0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A39C0-45F7-46CC-9398-BA2BCA427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4B85FA-7F60-4632-9911-B6A1A19B67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23EF8-6CA8-4E3C-B448-29421A0B2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AC2F1-4205-4B46-AF89-9C4CB35FF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2FE55-1B7A-4A6B-B36E-EA599D9867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BE971-CCF5-498A-BCEF-30A067DA7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8C051-8DA1-40F7-8F15-C7464FFF3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34CB3-85BB-48EC-8012-0B93E61F9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95838-F019-4E3E-909D-DDCCBFFA9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572C4-68DF-43F7-8D6C-9BAE3521E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9B3CB-760C-4D45-9001-30E1E0064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287D1-84AC-44F4-B636-40762AF0B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0E44D2-61F6-425E-8946-015C3DD8B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18CCD-01D0-4DCE-BE33-FB4C4A986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738C1-70B1-4A3C-BBE7-F5AB409C2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A8EFF-E66C-41D2-9F32-9672CAB0E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88C85-198A-4EF7-B91D-5E61C5909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94CC4-1E54-42CB-B504-51B57042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74C84-DB89-4038-AC70-EEA9A2B00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20AE3-1857-43DA-AE56-5FDC1D93C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661B41-9F4C-4261-A7BE-A7CBD7E49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4E420-9EF1-4ECF-8875-E3A8105CD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28BB4-BB53-42C0-95D4-692659635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11A6B-B65D-4C29-954B-2F0288A43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0B4E9-C464-4EEC-B56E-37CA2FDE4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9BD28A-9AB7-4D92-8168-5EB3B3DB25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572332-D44F-4C44-AE19-F4B8C403F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BD8328-D5E6-43FE-8CAC-79963198DD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B7FC-0DAA-4F3F-AC55-3C80CC5A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733F7-933E-444A-80AD-E5E8F0B43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05B07-9410-4D59-B5BD-1F0A44F98D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AFF3F-59C2-48D6-9399-C1CB3DB8F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D625B-C771-4F81-A07D-06EA864B1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E4F24-1242-4E12-8560-80256AB40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64F94-9C21-448A-83B8-4DE99858E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DFF47-64CD-43C1-86EA-9D1DF571E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00135-8FCD-4E8F-B313-11DE4B656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22394-B2B8-48E8-8F32-21B0D079A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1F6C7-DC3E-4B97-8020-C33D6F02D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CAE31-7E13-424A-9A56-ECCF3D66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044B1-B851-4D30-BCFE-5B5C669BD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FBE57-C9D5-49B5-AF55-26F339B40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1FE28-C7A8-4B85-A69A-74C131B6BF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821AA-3993-4368-9E72-64958CACD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2F0D2E-7185-4148-881D-89C6A86F3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E3AEE-E13D-4A75-8FC7-F43D90AD2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75BEFC-123B-483F-B832-4DA9DE37F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DB318-EEA1-4815-900C-3156FAE44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1EBD5-BD84-4414-A591-02CDC25A3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DE174-BF18-4213-87AB-8D45AD09E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6528-856F-4900-95EC-4AF08C7E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421A2-6DE7-4015-9FA6-FA7284500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02EC21-1723-4207-BF9D-E42192C850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403BC2-40F9-44D0-8D73-53245FD66C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60D760-8E52-4659-BF02-1F1661D37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20F1A8-2FCC-4E3E-95AD-CEF8CF949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F586BC-166E-407A-B4D9-64765CC175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61C46-3CD5-4355-AFC8-9C9C95628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1795BF-2597-4AC3-A52A-4FBEF072A2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F1051-24BE-4190-AF23-F55E21070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44A75-0069-4FE6-913D-A31725963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0DD5-428F-48B0-A383-3C67EE367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43940-73FC-463A-8545-082978CB1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202A0-52C9-438D-9EA0-DE290F6EF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BCA87-4EBF-4501-8118-4494F5690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DBB7A3-2FF7-47A3-BEB2-93170B6107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99D23D-C554-4CA0-ACF6-0894165759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E650-1590-4364-A042-2D5E2B534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02C4-490A-4DD1-B1F3-3213C6C37AA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520B-2A85-44D7-B757-14AEA625CD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A576-8E13-46CE-86EF-2F9E463BC5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4AE2-FFEF-4948-A54F-F59BA68C7DD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E506-76B4-4C30-9D41-42A44CB9BA0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324B-F87E-486F-9F41-B3E8202A91D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5756-4DDB-4CBE-9FEC-086B4C8C7AA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luency Mini Less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urpose of this lesson is to read like the character voices would sound to make the story interesting and to help you understand bet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152280"/>
            <a:ext cx="8643600" cy="1262160"/>
          </a:xfrm>
          <a:prstGeom prst="rect">
            <a:avLst/>
          </a:prstGeom>
          <a:ln w="0">
            <a:noFill/>
          </a:ln>
        </p:spPr>
      </p:pic>
      <p:pic>
        <p:nvPicPr>
          <p:cNvPr id="315" name="Picture 5" descr="C:\Users\lhockenberry\AppData\Local\Microsoft\Windows\Temporary Internet Files\Content.IE5\1L5DZ6KO\MCj02346410000[1].wmf"/>
          <p:cNvPicPr/>
          <p:nvPr/>
        </p:nvPicPr>
        <p:blipFill>
          <a:blip r:embed="rId2"/>
          <a:stretch/>
        </p:blipFill>
        <p:spPr>
          <a:xfrm>
            <a:off x="2252520" y="2666880"/>
            <a:ext cx="422928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1" descr="10-16-~1.JPG"/>
          <p:cNvPicPr/>
          <p:nvPr/>
        </p:nvPicPr>
        <p:blipFill>
          <a:blip r:embed="rId1"/>
          <a:stretch/>
        </p:blipFill>
        <p:spPr>
          <a:xfrm>
            <a:off x="2514600" y="0"/>
            <a:ext cx="4984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a:t>
            </a:r>
            <a:r>
              <a:rPr b="0" lang="en-US" sz="3000" spc="-1" strike="noStrike">
                <a:solidFill>
                  <a:srgbClr val="000000"/>
                </a:solidFill>
                <a:latin typeface="Corbel"/>
              </a:rPr>
              <a:t>Honey what happened at school today? Mr. Stone called and was very upset.”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Did you have to take a tranquilizer?”</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Oh, Marcy, don’t be mean.  I can’t help it. You know things aren’t easy for me.”   </a:t>
            </a: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I knew that.  I mean, her husband is related to me too. And she also worried about me and Stuart.  </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10-16-~1.JPG"/>
          <p:cNvPicPr/>
          <p:nvPr/>
        </p:nvPicPr>
        <p:blipFill>
          <a:blip r:embed="rId1"/>
          <a:stretch/>
        </p:blipFill>
        <p:spPr>
          <a:xfrm>
            <a:off x="0" y="-152280"/>
            <a:ext cx="8686800" cy="8001000"/>
          </a:xfrm>
          <a:prstGeom prst="rect">
            <a:avLst/>
          </a:prstGeom>
          <a:ln w="0">
            <a:noFill/>
          </a:ln>
        </p:spPr>
      </p:pic>
      <p:sp>
        <p:nvSpPr>
          <p:cNvPr id="320" name="TextBox 2"/>
          <p:cNvSpPr/>
          <p:nvPr/>
        </p:nvSpPr>
        <p:spPr>
          <a:xfrm>
            <a:off x="2687400" y="5715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deling</a:t>
            </a:r>
            <a:endParaRPr b="0" lang="en-US" sz="1800" spc="-1" strike="noStrike">
              <a:solidFill>
                <a:srgbClr val="000000"/>
              </a:solidFill>
              <a:latin typeface="Corbel"/>
            </a:endParaRPr>
          </a:p>
        </p:txBody>
      </p:sp>
      <p:sp>
        <p:nvSpPr>
          <p:cNvPr id="321" name="TextBox 3"/>
          <p:cNvSpPr/>
          <p:nvPr/>
        </p:nvSpPr>
        <p:spPr>
          <a:xfrm>
            <a:off x="304920" y="304920"/>
            <a:ext cx="37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2" name="TextBox 4"/>
          <p:cNvSpPr/>
          <p:nvPr/>
        </p:nvSpPr>
        <p:spPr>
          <a:xfrm>
            <a:off x="4164840" y="685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3" name="Rectangle 5"/>
          <p:cNvSpPr/>
          <p:nvPr/>
        </p:nvSpPr>
        <p:spPr>
          <a:xfrm>
            <a:off x="-26280" y="12952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4" name="Rectangle 6"/>
          <p:cNvSpPr/>
          <p:nvPr/>
        </p:nvSpPr>
        <p:spPr>
          <a:xfrm>
            <a:off x="228600" y="1600200"/>
            <a:ext cx="37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5" name="Rectangle 7"/>
          <p:cNvSpPr/>
          <p:nvPr/>
        </p:nvSpPr>
        <p:spPr>
          <a:xfrm>
            <a:off x="126000" y="19051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sp>
        <p:nvSpPr>
          <p:cNvPr id="326" name="Rectangle 8"/>
          <p:cNvSpPr/>
          <p:nvPr/>
        </p:nvSpPr>
        <p:spPr>
          <a:xfrm>
            <a:off x="4384800" y="350532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7" name="Rectangle 9"/>
          <p:cNvSpPr/>
          <p:nvPr/>
        </p:nvSpPr>
        <p:spPr>
          <a:xfrm>
            <a:off x="4495680" y="2057400"/>
            <a:ext cx="3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8" name="Rectangle 10"/>
          <p:cNvSpPr/>
          <p:nvPr/>
        </p:nvSpPr>
        <p:spPr>
          <a:xfrm>
            <a:off x="380880" y="2438280"/>
            <a:ext cx="3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29" name="Rectangle 12"/>
          <p:cNvSpPr/>
          <p:nvPr/>
        </p:nvSpPr>
        <p:spPr>
          <a:xfrm>
            <a:off x="152280" y="21337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rbel"/>
              </a:rPr>
              <a:t>Mom</a:t>
            </a:r>
            <a:endParaRPr b="0" lang="en-US" sz="1800" spc="-1" strike="noStrike">
              <a:solidFill>
                <a:srgbClr val="000000"/>
              </a:solidFill>
              <a:latin typeface="Corbel"/>
            </a:endParaRPr>
          </a:p>
        </p:txBody>
      </p:sp>
      <p:cxnSp>
        <p:nvCxnSpPr>
          <p:cNvPr id="330" name="Straight Arrow Connector 14"/>
          <p:cNvCxnSpPr/>
          <p:nvPr/>
        </p:nvCxnSpPr>
        <p:spPr>
          <a:xfrm>
            <a:off x="-152640" y="2437920"/>
            <a:ext cx="1600920" cy="2520"/>
          </a:xfrm>
          <a:prstGeom prst="straightConnector1">
            <a:avLst/>
          </a:prstGeom>
          <a:ln cap="rnd" w="6480">
            <a:solidFill>
              <a:srgbClr val="f0ac00"/>
            </a:solidFill>
            <a:miter/>
            <a:tailEnd len="med" type="arrow" w="med"/>
          </a:ln>
        </p:spPr>
      </p:cxnSp>
      <p:cxnSp>
        <p:nvCxnSpPr>
          <p:cNvPr id="331" name="Straight Arrow Connector 18"/>
          <p:cNvCxnSpPr/>
          <p:nvPr/>
        </p:nvCxnSpPr>
        <p:spPr>
          <a:xfrm>
            <a:off x="-152280" y="2514600"/>
            <a:ext cx="1296000" cy="534240"/>
          </a:xfrm>
          <a:prstGeom prst="straightConnector1">
            <a:avLst/>
          </a:prstGeom>
          <a:ln cap="rnd" w="6480">
            <a:solidFill>
              <a:srgbClr val="f0ac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1"/>
                                        </p:tgtEl>
                                        <p:attrNameLst>
                                          <p:attrName>style.visibility</p:attrName>
                                        </p:attrNameLst>
                                      </p:cBhvr>
                                      <p:to>
                                        <p:strVal val="visible"/>
                                      </p:to>
                                    </p:set>
                                    <p:animEffect filter="blinds(horizontal)" transition="in">
                                      <p:cBhvr additive="repl">
                                        <p:cTn id="7" dur="500"/>
                                        <p:tgtEl>
                                          <p:spTgt spid="3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2"/>
                                        </p:tgtEl>
                                        <p:attrNameLst>
                                          <p:attrName>style.visibility</p:attrName>
                                        </p:attrNameLst>
                                      </p:cBhvr>
                                      <p:to>
                                        <p:strVal val="visible"/>
                                      </p:to>
                                    </p:set>
                                    <p:animEffect filter="box(in)" transition="in">
                                      <p:cBhvr additive="repl">
                                        <p:cTn id="12" dur="500"/>
                                        <p:tgtEl>
                                          <p:spTgt spid="3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23"/>
                                        </p:tgtEl>
                                        <p:attrNameLst>
                                          <p:attrName>style.visibility</p:attrName>
                                        </p:attrNameLst>
                                      </p:cBhvr>
                                      <p:to>
                                        <p:strVal val="visible"/>
                                      </p:to>
                                    </p:set>
                                    <p:animEffect filter="blinds(horizontal)" transition="in">
                                      <p:cBhvr additive="repl">
                                        <p:cTn id="17" dur="500"/>
                                        <p:tgtEl>
                                          <p:spTgt spid="32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24"/>
                                        </p:tgtEl>
                                        <p:attrNameLst>
                                          <p:attrName>style.visibility</p:attrName>
                                        </p:attrNameLst>
                                      </p:cBhvr>
                                      <p:to>
                                        <p:strVal val="visible"/>
                                      </p:to>
                                    </p:set>
                                    <p:animEffect filter="blinds(horizontal)" transition="in">
                                      <p:cBhvr additive="repl">
                                        <p:cTn id="22" dur="500"/>
                                        <p:tgtEl>
                                          <p:spTgt spid="32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25"/>
                                        </p:tgtEl>
                                        <p:attrNameLst>
                                          <p:attrName>style.visibility</p:attrName>
                                        </p:attrNameLst>
                                      </p:cBhvr>
                                      <p:to>
                                        <p:strVal val="visible"/>
                                      </p:to>
                                    </p:set>
                                    <p:animEffect filter="blinds(horizontal)" transition="in">
                                      <p:cBhvr additive="repl">
                                        <p:cTn id="27" dur="500"/>
                                        <p:tgtEl>
                                          <p:spTgt spid="32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27"/>
                                        </p:tgtEl>
                                        <p:attrNameLst>
                                          <p:attrName>style.visibility</p:attrName>
                                        </p:attrNameLst>
                                      </p:cBhvr>
                                      <p:to>
                                        <p:strVal val="visible"/>
                                      </p:to>
                                    </p:set>
                                    <p:animEffect filter="box(in)" transition="in">
                                      <p:cBhvr additive="repl">
                                        <p:cTn id="32" dur="500"/>
                                        <p:tgtEl>
                                          <p:spTgt spid="32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29"/>
                                        </p:tgtEl>
                                        <p:attrNameLst>
                                          <p:attrName>style.visibility</p:attrName>
                                        </p:attrNameLst>
                                      </p:cBhvr>
                                      <p:to>
                                        <p:strVal val="visible"/>
                                      </p:to>
                                    </p:set>
                                    <p:animEffect filter="blinds(horizontal)" transition="in">
                                      <p:cBhvr additive="repl">
                                        <p:cTn id="37" dur="500"/>
                                        <p:tgtEl>
                                          <p:spTgt spid="32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328"/>
                                        </p:tgtEl>
                                        <p:attrNameLst>
                                          <p:attrName>style.visibility</p:attrName>
                                        </p:attrNameLst>
                                      </p:cBhvr>
                                      <p:to>
                                        <p:strVal val="visible"/>
                                      </p:to>
                                    </p:set>
                                    <p:animEffect filter="checkerboard(across)" transition="in">
                                      <p:cBhvr additive="repl">
                                        <p:cTn id="4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10-16-~1.JPG"/>
          <p:cNvPicPr/>
          <p:nvPr/>
        </p:nvPicPr>
        <p:blipFill>
          <a:blip r:embed="rId1"/>
          <a:stretch/>
        </p:blipFill>
        <p:spPr>
          <a:xfrm>
            <a:off x="0" y="0"/>
            <a:ext cx="7924680" cy="7772400"/>
          </a:xfrm>
          <a:prstGeom prst="rect">
            <a:avLst/>
          </a:prstGeom>
          <a:ln w="0">
            <a:noFill/>
          </a:ln>
        </p:spPr>
      </p:pic>
      <p:sp>
        <p:nvSpPr>
          <p:cNvPr id="333" name="TextBox 2"/>
          <p:cNvSpPr/>
          <p:nvPr/>
        </p:nvSpPr>
        <p:spPr>
          <a:xfrm>
            <a:off x="8301600" y="609480"/>
            <a:ext cx="3484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a:t>
            </a:r>
            <a:br>
              <a:rPr sz="1800"/>
            </a:br>
            <a:r>
              <a:rPr b="0" lang="en-US" sz="1800" spc="-1" strike="noStrike">
                <a:solidFill>
                  <a:srgbClr val="000000"/>
                </a:solidFill>
                <a:latin typeface="Corbel"/>
              </a:rPr>
              <a:t>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a:t>
            </a:r>
            <a:br>
              <a:rPr sz="1800"/>
            </a:br>
            <a:r>
              <a:rPr b="0" lang="en-US" sz="1800" spc="-1" strike="noStrike">
                <a:solidFill>
                  <a:srgbClr val="000000"/>
                </a:solidFill>
                <a:latin typeface="Corbel"/>
              </a:rPr>
              <a:t>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orbel"/>
              </a:rPr>
              <a:t>P</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a:t>
            </a:r>
            <a:endParaRPr b="0" lang="en-US" sz="1800" spc="-1" strike="noStrike">
              <a:solidFill>
                <a:srgbClr val="000000"/>
              </a:solidFill>
              <a:latin typeface="Corbel"/>
            </a:endParaRPr>
          </a:p>
        </p:txBody>
      </p:sp>
      <p:sp>
        <p:nvSpPr>
          <p:cNvPr id="334" name="TextBox 3"/>
          <p:cNvSpPr/>
          <p:nvPr/>
        </p:nvSpPr>
        <p:spPr>
          <a:xfrm>
            <a:off x="419400" y="304920"/>
            <a:ext cx="2666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When dad got home,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mom said she wanted to</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talk to him.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y mother had</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 fantastic sense</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f timing.  It got….</a:t>
            </a:r>
            <a:endParaRPr b="0" lang="en-US" sz="1800" spc="-1" strike="noStrike">
              <a:solidFill>
                <a:srgbClr val="000000"/>
              </a:solidFill>
              <a:latin typeface="Corbel"/>
            </a:endParaRPr>
          </a:p>
        </p:txBody>
      </p:sp>
      <p:cxnSp>
        <p:nvCxnSpPr>
          <p:cNvPr id="335" name="Straight Arrow Connector 5"/>
          <p:cNvCxnSpPr/>
          <p:nvPr/>
        </p:nvCxnSpPr>
        <p:spPr>
          <a:xfrm flipV="1">
            <a:off x="2438280" y="685080"/>
            <a:ext cx="1448640" cy="1524600"/>
          </a:xfrm>
          <a:prstGeom prst="straightConnector1">
            <a:avLst/>
          </a:prstGeom>
          <a:ln cap="rnd" w="6480">
            <a:solidFill>
              <a:srgbClr val="f0ac00"/>
            </a:solidFill>
            <a:miter/>
            <a:tailEnd len="med" type="arrow" w="med"/>
          </a:ln>
        </p:spPr>
      </p:cxnSp>
      <p:sp>
        <p:nvSpPr>
          <p:cNvPr id="336" name="TextBox 6"/>
          <p:cNvSpPr/>
          <p:nvPr/>
        </p:nvSpPr>
        <p:spPr>
          <a:xfrm>
            <a:off x="6930000" y="304920"/>
            <a:ext cx="3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64847"/>
                </a:solidFill>
                <a:latin typeface="Corbel"/>
              </a:rPr>
              <a:t>D</a:t>
            </a:r>
            <a:endParaRPr b="0" lang="en-US" sz="1800" spc="-1" strike="noStrike">
              <a:solidFill>
                <a:srgbClr val="000000"/>
              </a:solidFill>
              <a:latin typeface="Corbel"/>
            </a:endParaRPr>
          </a:p>
        </p:txBody>
      </p:sp>
      <p:sp>
        <p:nvSpPr>
          <p:cNvPr id="337" name="TextBox 8"/>
          <p:cNvSpPr/>
          <p:nvPr/>
        </p:nvSpPr>
        <p:spPr>
          <a:xfrm flipV="1" rot="10800000">
            <a:off x="3519360" y="115524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6c7d"/>
                </a:solidFill>
                <a:latin typeface="Corbel"/>
              </a:rPr>
              <a:t>D</a:t>
            </a:r>
            <a:endParaRPr b="0" lang="en-US" sz="1800" spc="-1" strike="noStrike">
              <a:solidFill>
                <a:srgbClr val="000000"/>
              </a:solidFill>
              <a:latin typeface="Corbel"/>
            </a:endParaRPr>
          </a:p>
        </p:txBody>
      </p:sp>
      <p:sp>
        <p:nvSpPr>
          <p:cNvPr id="338" name="TextBox 9"/>
          <p:cNvSpPr/>
          <p:nvPr/>
        </p:nvSpPr>
        <p:spPr>
          <a:xfrm>
            <a:off x="3574080" y="14479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b76d"/>
                </a:solidFill>
                <a:latin typeface="Corbel"/>
              </a:rPr>
              <a:t>M</a:t>
            </a:r>
            <a:endParaRPr b="0" lang="en-US" sz="1800" spc="-1" strike="noStrike">
              <a:solidFill>
                <a:srgbClr val="000000"/>
              </a:solidFill>
              <a:latin typeface="Corbel"/>
            </a:endParaRPr>
          </a:p>
        </p:txBody>
      </p:sp>
      <p:sp>
        <p:nvSpPr>
          <p:cNvPr id="339" name="Rectangle 10"/>
          <p:cNvSpPr/>
          <p:nvPr/>
        </p:nvSpPr>
        <p:spPr>
          <a:xfrm>
            <a:off x="3501000" y="1752480"/>
            <a:ext cx="3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8651"/>
                </a:solidFill>
                <a:latin typeface="Corbel"/>
              </a:rPr>
              <a:t>D</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36"/>
                                        </p:tgtEl>
                                        <p:attrNameLst>
                                          <p:attrName>style.visibility</p:attrName>
                                        </p:attrNameLst>
                                      </p:cBhvr>
                                      <p:to>
                                        <p:strVal val="visible"/>
                                      </p:to>
                                    </p:set>
                                    <p:animEffect filter="checkerboard(across)" transition="in">
                                      <p:cBhvr additive="repl">
                                        <p:cTn id="49" dur="500"/>
                                        <p:tgtEl>
                                          <p:spTgt spid="33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37"/>
                                        </p:tgtEl>
                                        <p:attrNameLst>
                                          <p:attrName>style.visibility</p:attrName>
                                        </p:attrNameLst>
                                      </p:cBhvr>
                                      <p:to>
                                        <p:strVal val="visible"/>
                                      </p:to>
                                    </p:set>
                                    <p:animEffect filter="blinds(horizontal)" transition="in">
                                      <p:cBhvr additive="repl">
                                        <p:cTn id="54" dur="500"/>
                                        <p:tgtEl>
                                          <p:spTgt spid="33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338"/>
                                        </p:tgtEl>
                                        <p:attrNameLst>
                                          <p:attrName>style.visibility</p:attrName>
                                        </p:attrNameLst>
                                      </p:cBhvr>
                                      <p:to>
                                        <p:strVal val="visible"/>
                                      </p:to>
                                    </p:set>
                                    <p:animEffect filter="checkerboard(across)" transition="in">
                                      <p:cBhvr additive="repl">
                                        <p:cTn id="59" dur="500"/>
                                        <p:tgtEl>
                                          <p:spTgt spid="33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339"/>
                                        </p:tgtEl>
                                        <p:attrNameLst>
                                          <p:attrName>style.visibility</p:attrName>
                                        </p:attrNameLst>
                                      </p:cBhvr>
                                      <p:to>
                                        <p:strVal val="visible"/>
                                      </p:to>
                                    </p:set>
                                    <p:animEffect filter="checkerboard(across)" transition="in">
                                      <p:cBhvr additive="repl">
                                        <p:cTn id="6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89000" y="152280"/>
            <a:ext cx="8504280" cy="1262160"/>
          </a:xfrm>
          <a:prstGeom prst="rect">
            <a:avLst/>
          </a:prstGeom>
          <a:ln w="0">
            <a:noFill/>
          </a:ln>
        </p:spPr>
      </p:pic>
      <p:sp>
        <p:nvSpPr>
          <p:cNvPr id="34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urpose of this lesson is to read like the character voices would sound to make the story interesting and to help you better understand the story you are read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pic>
        <p:nvPicPr>
          <p:cNvPr id="343" name="Picture 2" descr="C:\Users\lhockenberry\AppData\Local\Microsoft\Windows\Temporary Internet Files\Content.IE5\Y1LIFZJ6\MCj04260540000[1].wmf"/>
          <p:cNvPicPr/>
          <p:nvPr/>
        </p:nvPicPr>
        <p:blipFill>
          <a:blip r:embed="rId2"/>
          <a:stretch/>
        </p:blipFill>
        <p:spPr>
          <a:xfrm>
            <a:off x="2943360" y="2666880"/>
            <a:ext cx="2549520" cy="22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08-04-22T16:48:30Z</dcterms:modified>
  <cp:revision>9</cp:revision>
  <dc:subject/>
  <dc:title>Reading Dialogue</dc:title>
</cp:coreProperties>
</file>